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7A1-704E-4DE0-8414-FFE72FDF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0FE-E088-4428-8ED4-44D2CD69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39E-5B9B-4735-ADEC-C5C40148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CD1-E79C-4F6E-823B-513E9C0B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489A-A9E2-4915-853C-0EFAE855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AB6B-6D1A-4196-A053-D41A9081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BC12-C92D-454C-B452-B7CB984F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6C7F-89A6-4FAC-926A-AF52CD7F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022F-96FB-4EEE-81EB-42CA8A13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3A61-A87A-45FE-9103-C6C365F1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F2C2-6138-4F6F-8EB5-D41AA4B5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16E-4557-497A-A574-2853A03D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0BB4-9087-4D5A-B1CF-05DBF47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08B1-C1E3-4651-9FBD-F752D42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71AE-23BF-42F3-B23B-57DCA6AC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26C7-E157-429D-AC9A-D1AF30CD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9979-534A-4502-924E-4A98FD4D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097-5D84-4722-8742-D381F4FB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CE3-B618-48F7-978E-299F68C5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44D-AEAA-4A57-807A-25634DAF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158-BF42-4C18-A1E2-CC611CB1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EAA-978A-4FA8-9452-6656740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969-55DD-4E80-B175-11EEBB87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5AC-950B-4D33-A7DA-086F3E6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3FB2-DB8A-4F5D-8C35-24933D64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DB25-55CB-46B2-A5BF-84B63736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Защита домашних питомцев от жар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5406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ца 9 Д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юнина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 Белых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42432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Прогулк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1640" y="1699920"/>
            <a:ext cx="41972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ыгуливать собак лучше рано утром или вечером. Прямые солнечные лучи сильно нагревают земную поверхность, увеличивая процесс испарения, конвекции, излучения, поэтому в середине дня температура воздуха имеет максимальн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140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Прогулк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елательно выгуливать собак возле водоемов. Так как удельная теплоемкость воды (4200 Дж/кг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С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больше удельной теплоемкости воздуха (1000Дж/кг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С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 вода нагревается медленнее, поэтому в жаркий день возле водоема чувствуется прох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80000" y="3357720"/>
            <a:ext cx="4751280" cy="3174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2239920" cy="299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518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Меняйте воду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76720" y="1052280"/>
            <a:ext cx="55432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 миске у животного постоянно должна быть свежая холодная (но не ледяная) вода. При высокой температуре между водой и воздухом быстро наступает тепловое равновесие, поэтому воду регулярно надо меня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2022480" cy="270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2808360" cy="2573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2930400" cy="1724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076720" y="3860640"/>
            <a:ext cx="3311640" cy="24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464000" cy="3351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Купа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ать собак в жару не следует: испарение может вызвать сильный перегрев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372360" y="2421000"/>
            <a:ext cx="2381040" cy="275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95280" y="2421000"/>
            <a:ext cx="2571840" cy="29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    </a:t>
            </a: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Стрижк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3715920"/>
            <a:ext cx="85183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инношерстных животных необходимо постричь. Но не стригите слишком коротко. Животные благодаря своей шерсти находятся в "термосе" в котором поверхностная температура тела постоянна. Шерсть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благодаря плохой теплопроводности, не дает телу ни перегреваться, ни переохлаждаться, к тому же шерстяной покров прекрасно защищает питомца от комаров. А стрижка наголо может привести к ожогам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673440" cy="243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4321080" cy="3233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Современные реше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4149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мериканская компания “INTERNATIONAL AIR” представила новинку – кондиционер для собачей будки. Система работает как на охлаждение, так и на нагрев воздуха, что особенно актуально для нашего климата. Дополнительные рассекатели обеспечивают равномерный поток воздуха во все стороны будки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6160" y="90792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Кондиционер для собачьей бу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8137440" cy="2279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07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Современные реше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1280" y="1413000"/>
            <a:ext cx="6553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летний период, чтобы не получить солнечный удар, наши верные четвероногие друзья могут носить головные уборы. Но у собак уши расположены не как у людей сбоку, а на макушке, а значит и головной убор должен быть особ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годня выбор шапочек для собак невероятно богат и разнообразен: и кепочки, и панамочки, и даже гламурные шляп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52320" y="9828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Кепка для соб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45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140360" y="5373720"/>
            <a:ext cx="1649160" cy="1233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524720" y="53737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84720" y="537372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250920" y="1413000"/>
            <a:ext cx="232884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3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Современные реше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359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ани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itBit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ыпускает специальные ботинки для собак самых разных форм, расцветок и фасонов, чтобы защитить лапы от неблагоприятных погодных условий, в том числе и от горячей поверхности асфаль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68360" y="3645000"/>
            <a:ext cx="4248360" cy="2768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285920" cy="1190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235160" cy="129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948360" y="3500280"/>
            <a:ext cx="1800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179280" y="5084640"/>
            <a:ext cx="1532160" cy="1532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58440" y="98100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Обувь для соб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Современные реше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4220640"/>
            <a:ext cx="867564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ый сорт мороженого для собак, появившийся в австрийской столице, называется "Догиссимо". Слово происходит от английского "dog" (соба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желанию клиента лакомство можно украсить также хрустящим собачьим печень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22320" y="105408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Мороженое для соб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38292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Image"/>
          <p:cNvPicPr/>
          <p:nvPr/>
        </p:nvPicPr>
        <p:blipFill>
          <a:blip r:embed="rId3"/>
          <a:stretch/>
        </p:blipFill>
        <p:spPr>
          <a:xfrm>
            <a:off x="5076720" y="1700280"/>
            <a:ext cx="3348000" cy="226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Современные реше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огиссимо" не противопоказано даже собакам, страдающим сахарным диаб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роженое содержит натуральный рис и со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ыт показал, что наибольший восторг у собак вызывает ванильное морож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367164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Мороженое для собак "/>
          <p:cNvPicPr/>
          <p:nvPr/>
        </p:nvPicPr>
        <p:blipFill>
          <a:blip r:embed="rId3"/>
          <a:stretch/>
        </p:blipFill>
        <p:spPr>
          <a:xfrm>
            <a:off x="4140360" y="371628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Животные в город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9280" y="1483920"/>
            <a:ext cx="3983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едя опрос среди учащихся нашего Лицея мы установили, что около 63% содержат домашних питомцев. Для мегаполиса это довольно большая цифра. Мы решили провести исследование и помочь нашим ребятам уберечь их любимцев от летней жа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724120" cy="3638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19280" y="3789360"/>
            <a:ext cx="3529080" cy="27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Тепловой удар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414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 время летней жары домашние животные, как и люди, должны быть тщательно защищены от перегрева, ведь тепловой удар представляет опасность для жизни. Большинство животных из-за отсутствия у них потовых желез не может потеть. Простые правила помогут предохранить четвероногих друзей от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522960" cy="44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22560" y="0"/>
            <a:ext cx="4321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Свобода передвиже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4221000"/>
            <a:ext cx="889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икогда не оставляйте собаку привязанной на солнцеп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Дайте собаке или кошке возможность самой выбирать место для отдыха: не важно под домом ли это, в вырытой ямке где-нибудь в тенечке, под машиной или на каменной пл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4608360" cy="30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Свобода передвижени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51483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Многие животные любят загорать на солнышке - не удивляйтесь и не переживайте. Животные сами прекрасно регулируют свое состояние и, насладившись досыта солнышком, уходят в т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552840" cy="464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360036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31920" y="260280"/>
            <a:ext cx="7912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       </a:t>
            </a: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Питомец в машин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888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икогда не оставляйте животное в машине на солнце даже если окна машины приоткрыты. Автомобиль в жару подобен доменной печи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аллический корпус машины обладает небольшой удельной теплоемкостью, поэтому быстро нагре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4560840" cy="345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2232000" cy="16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Проветривайте помещ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28472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ещение, в котором находится питомец, необходимо регулярно проветривать. В закрытом помещении отсутствует циркуляция воздуха, поэтому температура увеличивается. При высокой температуре усиливается процесс испарения, от чего в воздух попадают молекулы различных веществ, что затрудняет дых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Еще несколько советов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16000" y="1676520"/>
            <a:ext cx="412596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ставляйте открытой дверь в ванную комнату - там, как правило, прохладн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ложите влажный коврик или тряпку - некоторые собаки предпочитают валяться пузом на влажной и поэтому прохладно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Schoolbook"/>
              </a:rPr>
              <a:t>Еще несколько советов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собое внимание уделяйте собакам темной окраски. Тела с темной поверхностью лучше поглощают энергию, чем тела, имеющие светлу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2208240" cy="33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11280" y="2997360"/>
            <a:ext cx="5040360" cy="33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4:14:20Z</dcterms:created>
  <dc:creator>1</dc:creator>
  <dc:description/>
  <dc:language>en-US</dc:language>
  <cp:lastModifiedBy>Наталья</cp:lastModifiedBy>
  <dcterms:modified xsi:type="dcterms:W3CDTF">2010-01-11T18:16:23Z</dcterms:modified>
  <cp:revision>166</cp:revision>
  <dc:subject/>
  <dc:title>Защита животных  от жары</dc:title>
</cp:coreProperties>
</file>